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31E6-231A-472E-BFF2-A1773A18B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EBE2-16BC-4A57-B1C1-28840F7C4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2F6D23-196D-473E-B6A4-5F51FA8D2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002301-A064-49AE-A296-1560E3FE8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0B38DF-1E4D-4CEB-91F7-E8D928D10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D2C321-44F0-4CF0-88F3-6A79B11E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EA1A8E-9120-4BF8-BC18-937047F09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C67804-2875-4849-8E2A-5E572557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C28C3E-2F16-4CAE-B7F6-C0CBF404C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C680EA-D3BE-42D2-8FB3-9F0B776BE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52347D-27D2-4AA8-8E71-25D16210E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D0654A-D05F-40B2-9A1B-B691DA6EC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B63D-ACBD-4354-AB4C-B894DA0DD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6E60BC-1291-4B15-AF36-4106E359D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EE5921-C4D1-4B48-AD98-424C15AA0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24FC72-7D4A-4677-95E0-FF9D97116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2EE577-5F6A-410C-BAC3-E7FA99A8D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FB594E-C70E-4389-8523-15C09728A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7AD502-E8AE-46ED-8D05-2D1FF01D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58FBE0-0806-43D2-AFE9-54E5EA14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F2A4D7-1320-45A3-825E-AC07D5DD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C1654C-5C9A-4B79-ABED-D9C1C89BA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DA8A86-5871-449D-8448-BB41810F2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0DEA-EFB9-46FF-A5B7-151C19468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D8CA23-2AC1-40F6-BB8B-635516AB3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064388-1475-4BEE-A0EB-E73503705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33287E-E5A0-4531-9E28-5BD2F1FD0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C79C3D-8213-4A8E-B950-67B77AA3F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03BE53-5ACD-4C01-B6C1-A6C2136A1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B79C95-97FA-4994-99AF-6FF4C13A7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78A059-30AA-4169-9C99-23AAFE58A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5E47E7-5FC7-4DA9-8409-90A824597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44E6F9-EB2B-478A-91B8-7CF9CB70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6A46A0-3D69-41E2-B3CB-0B8BAB04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9784B-44B8-4B1A-9690-FE15EC882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8A8F18-D6DA-4738-933D-1219DF574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927CBE-2509-4C5E-ACF8-BBA95FDAB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F50889-5F60-40D5-92F6-8463EC2A8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8AA419-1D3E-4535-8B7C-025F99F99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7AFBE3-AC84-47FD-BB19-C77265FF2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AA7F68-5355-4817-ACCC-9875B329A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2EAB61-19D4-4F94-9F11-272BF8AFF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961F95-6FA7-4E41-B74F-5D861FC3C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831571-AF02-429C-A810-9DBAF38DF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E2C5C9-E5CC-4EC1-9C18-FF22E6A30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28D00-7F13-43AD-BECF-6D59B3D6A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6AEF48-8D2D-4DD3-80CC-D1A31D7D6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0AC33E-4809-4E69-960D-20900032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EE423A-50D8-461A-AE0E-CF62B4D04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0354DC-6E9A-4292-AEB5-331A37EAD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23972B-A130-464D-B8FD-F07B8BB94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3CE63D-0BB8-433E-8CB4-9F04CE5D7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D81515-C60A-455E-BB1E-9E52879E5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FB0A8B-481D-4349-B3E7-C76131141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62CB37-5B33-42D5-9683-E9A735BD9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C3D978-3739-4B36-87F3-01521731C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01A57-077D-4D4A-B60F-9FBA781EE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820193-88C7-4AD4-AE73-13509B5D2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098F88-33DD-4E0F-B98C-96BA1A4B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81D04F-2DFC-4837-BC87-2F352ED12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D0F293-EE22-4A72-8267-C7649DD39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7432A1-3ECF-475F-AE4E-2717DEEFE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7A3247-0FD4-42D2-AC14-266148B1C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02A8D7-EA4C-4FEC-9B7C-37E300FB8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9F0E9C-3FB0-4CE2-8CDC-583624D37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224E18-1C39-4199-80E1-19540F13A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5EA152-EFB7-4D64-9997-B0FD2FCE2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0BABE-8DAD-435C-AFDA-5C61A5533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049E16-D059-496F-A9FA-9EB16CCD3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DEE66A-4B3C-4E88-9661-F01A7FA96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14A648-E11A-4783-971D-43C4A45B4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1BC2DC-665E-4468-B5DA-48305781C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664DCD-69B2-4361-AA60-1701F784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788E1B-30B8-4AFB-B77A-C23A7A723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1A61D3-6A8B-4488-AC1B-CB1125AE0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ADE81D-44A5-4241-AF64-6CC69D6B5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FAFF5B-966B-4656-9C16-8F66B4F96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7DE50E-A148-4E7F-943C-A2BB6215B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E7114-0424-4A07-8FBD-7CC423C7A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6892AD-1021-42BF-9F53-0D7C5CBE9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4666C8-5DD7-4E32-9CFE-E6FAA8DB6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206BE4-D2DF-4504-BCD8-D509F651F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0FFA89-A892-4230-BD3B-D24716A9F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A64D45-5D18-4D19-BA3C-872DF2A07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80057D-9E73-472C-A468-90FBC793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DA74DA-3ED9-481A-B37B-4820CA43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1F513A-359C-45AA-B5C7-43F3A200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D1EE49-8913-4463-B3BE-0535CECBF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BC320C-48BA-417F-BAF6-5A535F532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2E96C-C4A2-4B79-9091-73ECFD4F6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BEAFC2-E4E7-4261-8B04-6D79C9F6D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735B13-3A86-47F1-943D-2C02A6E42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F198F1-1797-4F03-9EAC-A1D29E32D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EED07C-F588-4C88-BDCD-539BE49BF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1B1FC9-D2AE-4AD3-BA81-9E4076275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604E9E-19DC-4F36-A7F3-4050199DC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71933C-2798-454B-81D3-CAA9594F8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DB7F56-76F2-436C-90FA-AFE6D2EA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522F2E-6237-4735-ABAD-33ECBB96D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4C3180-2065-4F10-A73F-363BE63B0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B0FAC-2AEB-4217-9CF7-586843EC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712D47-03F9-4424-B62F-84A593EE7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6D81FD-3F43-46D0-BC3F-34A76D518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753DD9-E171-4B88-836F-1804E1829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799E6E-589B-4C9D-8AFF-345C2E69E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917F3E-C609-444E-8941-81A1E1223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C2BC2C-F695-45FF-839E-EEADC632A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9131E5-48B8-4E5C-95C2-1DFAFC743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FBDF4A-F89E-4CE0-A458-1BE83EB04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1D310E-44DA-42F6-8B71-5DCAEFFBC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818153-526C-4B3B-BA3E-5C3494370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2728-478D-4A6A-A96D-F9C910A10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C8B35-4033-4797-94F9-9B4FC7A95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C226CC-E8D0-4C05-BE56-939A66031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E07628-E532-4042-9D43-E9BC1EE0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27E33E-C35F-4DF5-A16E-76DB6A707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05D4F5-6A7D-434B-AEAB-2CC1D50BD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1D4117-8073-400D-BD3B-7D7902E09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FB7FEA-80DC-4228-A1B0-D9D12726B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CD43EC-8862-45CD-891E-593C276CA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2C57BF-12AC-4F0F-B8F6-292126439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962E1F-7216-4213-AACB-625F5AC7B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AF6F0D-6EA7-4251-9C0A-54D1C994D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87D1C-E2D8-46A3-9CF7-E6005C93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D137DF-94C5-4A74-AC1B-13D0CAF8D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93C082-5EFE-4A23-977D-F76BBFB6E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00DD7A-9E43-47B4-A66B-84A676B85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DEF1E7-C529-494D-9A3A-8237E97F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F2CBE3-37C5-4F9D-B24A-9E2C8D5D2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2A2974-5505-4C85-BA73-CB06DA9E7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EBA501-D932-4889-944F-56F75F999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0BD68E-ECC8-48CC-8123-37D1CBEED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FE60F9-BA6E-487F-AFD2-FAC19FCCE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2B5999-7534-4EB4-B183-3BB5127A0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4A089-3086-4E86-B384-BB28F72DC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04643B-1DB8-491E-90DA-6B84C9D83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AA2C40-6F14-4B79-9F22-CC5DA94F5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D4ECA0-F559-4B24-9B7C-0551BEC27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86A33F-DE77-485D-9591-99F56C88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8583B2-408B-4DAB-88FE-10A7D5516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C0D118-B0F5-4913-8595-3C30C888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5062E5-32CA-4C50-8B38-C9D84AF1F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5643AD-EC52-4756-8A73-336F18D65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6A699C-A8F7-4A3F-BC1D-E77F14579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09FD2D-EE69-4405-B7DA-123CB4BC4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A3C1B-0FD9-47C4-87DC-ACB62BE5A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D43608-EFB4-4503-B546-8185CDE04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795749-1C79-4A6A-AC87-3F013BA72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CDE01A-6B48-4A8B-8C02-8304E6339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14FF58-D674-4182-8097-C8F56F4BD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D3090E-82CA-4F73-ABB2-751BBAB95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A8D7F2-6B46-4BEA-A034-73A6C0591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6E4361-2518-4DA4-B44B-48B4C18BA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E1AF53-E29E-4393-9D49-0EFA68139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0FC00F-EAB2-4643-8E05-63907EA86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45A289-82D7-4CD5-B1B9-E3AF1AF10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90071-2B18-4412-855E-DC200B1C0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416367-86EA-4799-97B1-40275ACB3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BC6C55-CBE6-4BAE-9322-DFC340B28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F6E5FF-530A-4A95-AA23-885591E17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DC9117-CBC0-430A-84EA-F99C11BCA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4B5FB5-E63F-4764-8910-BB3F86A87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17DDBD-7860-4AE2-9FB9-F3C0F5303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20880F-3D58-4EDF-92EF-8426ADDE0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8F2B96-AD8C-4FCA-B27E-75B5B7012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D9F9A8-85D9-4768-B443-6F54D001C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66F922-9408-44C8-A89D-8709E431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18615-9EBD-4002-9AC3-4D050C252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62E17C-C5AA-4460-B06C-7D0985722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988390-2E73-4527-8C7A-C2E337B6B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034C32-CFFB-4BB7-9B84-95780BE66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54597-C217-4982-847F-5DC904569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6CDFA-ACA4-429D-ABC3-7A9608928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C5EA1-0812-40DE-92D9-9A9A3BA39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5C2EB-3536-4F66-95ED-2102E38A0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7D15-E42A-486C-BF14-0493C94E2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CEF8C-4A32-49FD-BA00-CF79B31FD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3E3FD-562B-4727-B4CE-DB1920AE0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2518B-EB70-4F65-872E-A2D90906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1D5C6-A339-4C57-8140-90F83795C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C53EC-F677-4DD3-8DEC-A3DEEEF50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354DD-1FD4-4FB0-B2C2-419C11967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71E70-FAF6-465B-AF12-72A8D9198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BFF5F-6F6A-470B-BFA0-7DD2568FA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F391E-DC43-43D7-A737-FEC19D016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44ED8-961C-4B6B-AC88-E07D673B5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BC3B-D8C5-42F5-B789-6BBC32C06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C2B17-0D9F-4057-97FE-3B17FE4A8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72213-0C7F-43BE-B596-7D399F07E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CA829-B917-46F6-BF82-744AD44C8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064A2-5B6A-4107-BEAF-37C21E8D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8B351-E22A-44CA-9583-E3347A3E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683AA-2C1A-437F-A6E2-50408190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0B7DC-686A-4D22-869C-EC8DF7C8D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21E1F-167F-4DFC-BDF7-05EE5FFDE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5BFA8-095A-43BE-A57E-EB26B7662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4AA4B6-2E9A-4086-A7AA-BE8390672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53F6-9924-4630-AEDE-7A3D9E21D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91EBD6-707D-4058-A622-A5E833B9D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9A17E-EEB9-4224-BBBE-27BCB8B44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B34A9-F1A9-468B-84B2-72EE6566F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6884F-16BA-4084-AA94-FF5470653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372387-CEB0-497B-970E-C2009A092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91304-54AA-49EC-8F9F-E9FBBB701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D4235-6C7D-4DA3-8FBE-FD560029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3FAA5B-17FB-4CEE-BBE1-3CE39A166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4E5BEE-DE3F-4263-9118-A111F652A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34E957-2263-4756-943F-4845A460E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4B94-C053-48F7-BF23-4C8692071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AC6EF-C635-43B7-BEC8-FD2C75333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FF5808-CD6F-4287-B561-6E11BCA0D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8FB41E-DAEA-4669-B681-C6D581E34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D77FAD-07D5-497B-9501-9010FC343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33574D-209B-41E7-B77F-1479AB6D0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6A786A-28A3-475B-AA9C-AB313A3A9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42CD62-920B-4F84-ABC4-62BF46442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83CAFD-B78B-4C1E-B9C9-B9DC65C67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7B655D-8BDB-491E-8166-7F0F4E4F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3667E8-B1FA-4F04-8C60-42B36C7FD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3D76-73D1-417A-89D2-F9C42B4D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957E55-B5E1-4114-8E93-20B33B47E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113E09-3A82-4F0C-A08E-108D064CB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631409-10D9-4C70-810B-EAE5D2CED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0AC6AD-7A71-421A-ADF8-B124E50DA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71A05F-820F-4F8C-9E16-4D28BD7F1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EE4BAF-192E-409F-9735-E47CCB0AF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80FCFF-0EF1-42C9-87C1-3CFE5912C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D02442-F6DD-4225-9BFF-E7DA02BF0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15498D-5175-45B1-ADF6-C1DC76EB2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4B051E-5AC4-4BBC-9C29-7015D7287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B8DC-94FE-4447-8589-B72BE723C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E4E113-E410-40CC-BF98-614000B37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C7AC8B-39FC-4E11-BDDB-CA2ED5390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F096DF-E4E1-4E92-A50B-E41D813AE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0E2F3E-2932-4EE5-9439-BF08AD47D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2D6C69-C056-4BCA-BA15-FA44E2CF7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C821BB-FD68-425A-BDC6-66765CF0F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DA6FE2-DE51-4336-8781-31EF57B1C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CB2A1A-7364-47CB-B7F4-B7DF2893E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C5B1E0-30B6-451F-934E-54716229F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0ED62B-03A5-4883-8CB4-7691FF296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6EB6-5559-4FF6-8BE1-20736D998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C312F1-250F-4563-AB62-2DB109BB1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14D423-8279-430B-B988-EC583D0D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4D9E82-8A75-4D21-B828-71A8A43BD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7CBF45-B4F5-4216-8D21-3B8C80FF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60566F-F78C-405C-9A3C-D2E1AC102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7B7344-F38A-4247-BFFB-B4D19E238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B01CBB-5168-4FA7-81DA-922CDBDE1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0F7850-94B5-43FF-A6DF-965307F5F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089158-51BE-497A-B5FB-01EDE3D46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6E557E-5420-464F-87BA-1A5ADE58C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798F9-F261-4BEF-BE65-E04BE90878D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2CC65-CCDE-4F36-A637-D3912E1228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43E25-E840-495A-A774-40CD007FAC7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2B0D1-9C6B-483A-9A84-264A0D2EF6F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B1335-2872-4104-83CD-951C8FB1C79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BD75E-D587-4747-A7EE-41AD4B55740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3DA61-DB88-42B2-A041-57CE375BD86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A0869-1184-4238-BB8F-620510EE646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E23B5-27F8-4404-BA17-0C90D407018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F2E8A-FC19-4001-87E7-C07BE869528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67955-44A4-4BB2-A641-A8E61F4015D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06BD6-5075-4BC1-A547-DA6C58EAB43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F1B36-4726-49D4-8792-5E23FF14EC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0339D-CE0D-4D61-BB00-9A489714F92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C501F-A48A-4453-8145-D4500A4C4D8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D4898-04F5-4D8E-94BE-36026B3E780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8CF09-12EE-4EAA-B4ED-7DCBF7E2099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4322D-E8B5-47B8-A7FF-1AD78DCA3C9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68D2B-F5DF-4BCA-9910-5206C77ACE1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B913C-1AFA-4511-96EB-20AD7163D09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3F579-BBB0-4805-BDDB-7BC76156848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91F04-FA03-4BFC-A65C-75C6BBFF220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5367E-2024-425B-8361-11BB76344A4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B36C1-BB22-4155-9A5D-F321DEA686C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E7815-6E8D-4079-8AE1-8F1A0F12135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41E2F-780C-4B4B-93FE-54E3C7E2BEA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AF82E-FBB4-4704-8974-C29B974981D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65540-AC12-46F7-AEF5-6BD26CA0F1F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04B9C-0FDD-41BE-860D-7B59230BD8C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80717-D493-45EA-91DE-D44642F9B6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ACC1E-57A1-42ED-B0E1-27DAB5566F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5695A-F44E-4B0D-B17E-1AA486042B7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085E4-8252-4571-AF1B-A0A238F517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56749-66C0-4EB8-8D78-A4844D43609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8F57F-59AC-4BA7-9A43-BDFE6EE7441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3DEBB-88B6-43F7-8570-66B982F7D72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67DA8-5EA8-417C-8434-2F8F884881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D6717-4A42-4605-83CD-B379B13B46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B02C4-76DC-40CB-9731-FEACA22885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54C73-953E-4AF9-B239-C0243EE840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581120" y="2529000"/>
            <a:ext cx="598176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8" name="图片 69633" descr=""/>
          <p:cNvPicPr/>
          <p:nvPr/>
        </p:nvPicPr>
        <p:blipFill>
          <a:blip r:embed="rId1"/>
          <a:stretch/>
        </p:blipFill>
        <p:spPr>
          <a:xfrm>
            <a:off x="1019160" y="1197000"/>
            <a:ext cx="7105680" cy="2219400"/>
          </a:xfrm>
          <a:prstGeom prst="rect">
            <a:avLst/>
          </a:prstGeom>
          <a:ln w="0">
            <a:noFill/>
          </a:ln>
        </p:spPr>
      </p:pic>
      <p:pic>
        <p:nvPicPr>
          <p:cNvPr id="959" name="图片 69634" descr=""/>
          <p:cNvPicPr/>
          <p:nvPr/>
        </p:nvPicPr>
        <p:blipFill>
          <a:blip r:embed="rId2"/>
          <a:stretch/>
        </p:blipFill>
        <p:spPr>
          <a:xfrm>
            <a:off x="561960" y="3683160"/>
            <a:ext cx="8020080" cy="226692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3"/>
          <a:stretch/>
        </p:blipFill>
        <p:spPr>
          <a:xfrm>
            <a:off x="4427640" y="1728720"/>
            <a:ext cx="934920" cy="44784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4"/>
          <a:stretch/>
        </p:blipFill>
        <p:spPr>
          <a:xfrm>
            <a:off x="4413240" y="2378160"/>
            <a:ext cx="934920" cy="44748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5"/>
          <a:stretch/>
        </p:blipFill>
        <p:spPr>
          <a:xfrm>
            <a:off x="7380360" y="1758960"/>
            <a:ext cx="934920" cy="44784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6"/>
          <a:stretch/>
        </p:blipFill>
        <p:spPr>
          <a:xfrm>
            <a:off x="7380360" y="2363760"/>
            <a:ext cx="934920" cy="44784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7"/>
          <a:stretch/>
        </p:blipFill>
        <p:spPr>
          <a:xfrm>
            <a:off x="2050920" y="4278240"/>
            <a:ext cx="935280" cy="44784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8"/>
          <a:stretch/>
        </p:blipFill>
        <p:spPr>
          <a:xfrm>
            <a:off x="2050920" y="4883040"/>
            <a:ext cx="935280" cy="44784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9"/>
          <a:stretch/>
        </p:blipFill>
        <p:spPr>
          <a:xfrm>
            <a:off x="4859280" y="4249800"/>
            <a:ext cx="934920" cy="44748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10"/>
          <a:stretch/>
        </p:blipFill>
        <p:spPr>
          <a:xfrm>
            <a:off x="4975200" y="4854600"/>
            <a:ext cx="934920" cy="44748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11"/>
          <a:stretch/>
        </p:blipFill>
        <p:spPr>
          <a:xfrm>
            <a:off x="7797960" y="4264200"/>
            <a:ext cx="934920" cy="44748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12"/>
          <a:stretch/>
        </p:blipFill>
        <p:spPr>
          <a:xfrm>
            <a:off x="7797960" y="4869000"/>
            <a:ext cx="9349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304920" y="309600"/>
            <a:ext cx="8534160" cy="623880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7451640" y="1873080"/>
            <a:ext cx="935280" cy="4478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7380360" y="3284640"/>
            <a:ext cx="934920" cy="44748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7524720" y="4724280"/>
            <a:ext cx="934920" cy="4478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7524720" y="6107040"/>
            <a:ext cx="9349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图片 59410" descr=""/>
          <p:cNvPicPr/>
          <p:nvPr/>
        </p:nvPicPr>
        <p:blipFill>
          <a:blip r:embed="rId1"/>
          <a:stretch/>
        </p:blipFill>
        <p:spPr>
          <a:xfrm>
            <a:off x="623880" y="1219320"/>
            <a:ext cx="7896240" cy="441936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2"/>
          <a:stretch/>
        </p:blipFill>
        <p:spPr>
          <a:xfrm>
            <a:off x="1258920" y="2852640"/>
            <a:ext cx="2519280" cy="28083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3"/>
          <a:stretch/>
        </p:blipFill>
        <p:spPr>
          <a:xfrm>
            <a:off x="2916360" y="2103480"/>
            <a:ext cx="1368360" cy="44748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4"/>
          <a:stretch/>
        </p:blipFill>
        <p:spPr>
          <a:xfrm>
            <a:off x="5133960" y="2852640"/>
            <a:ext cx="3071880" cy="280836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5"/>
          <a:stretch/>
        </p:blipFill>
        <p:spPr>
          <a:xfrm>
            <a:off x="6791400" y="2103480"/>
            <a:ext cx="16682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2" name="图片 58373" descr=""/>
          <p:cNvPicPr/>
          <p:nvPr/>
        </p:nvPicPr>
        <p:blipFill>
          <a:blip r:embed="rId1"/>
          <a:stretch/>
        </p:blipFill>
        <p:spPr>
          <a:xfrm>
            <a:off x="719280" y="1671480"/>
            <a:ext cx="7705440" cy="35150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2"/>
          <a:stretch/>
        </p:blipFill>
        <p:spPr>
          <a:xfrm>
            <a:off x="755640" y="2421000"/>
            <a:ext cx="3168720" cy="287964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3"/>
          <a:stretch/>
        </p:blipFill>
        <p:spPr>
          <a:xfrm>
            <a:off x="2584440" y="1643040"/>
            <a:ext cx="1700280" cy="44784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4"/>
          <a:stretch/>
        </p:blipFill>
        <p:spPr>
          <a:xfrm>
            <a:off x="4859280" y="2421000"/>
            <a:ext cx="3168720" cy="287964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5"/>
          <a:stretch/>
        </p:blipFill>
        <p:spPr>
          <a:xfrm>
            <a:off x="6688080" y="1643040"/>
            <a:ext cx="1700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7" name="图片 57352" descr=""/>
          <p:cNvPicPr/>
          <p:nvPr/>
        </p:nvPicPr>
        <p:blipFill>
          <a:blip r:embed="rId1"/>
          <a:stretch/>
        </p:blipFill>
        <p:spPr>
          <a:xfrm>
            <a:off x="314280" y="1328760"/>
            <a:ext cx="8515440" cy="420048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2"/>
          <a:stretch/>
        </p:blipFill>
        <p:spPr>
          <a:xfrm>
            <a:off x="900000" y="3616200"/>
            <a:ext cx="4248360" cy="44784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3"/>
          <a:stretch/>
        </p:blipFill>
        <p:spPr>
          <a:xfrm>
            <a:off x="900000" y="4292640"/>
            <a:ext cx="4248360" cy="44748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4"/>
          <a:stretch/>
        </p:blipFill>
        <p:spPr>
          <a:xfrm>
            <a:off x="971640" y="4998960"/>
            <a:ext cx="69850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图片 56324" descr=""/>
          <p:cNvPicPr/>
          <p:nvPr/>
        </p:nvPicPr>
        <p:blipFill>
          <a:blip r:embed="rId1"/>
          <a:stretch/>
        </p:blipFill>
        <p:spPr>
          <a:xfrm>
            <a:off x="281160" y="755640"/>
            <a:ext cx="8581680" cy="541008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2"/>
          <a:stretch/>
        </p:blipFill>
        <p:spPr>
          <a:xfrm>
            <a:off x="1403280" y="3673440"/>
            <a:ext cx="4464000" cy="44784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3"/>
          <a:stretch/>
        </p:blipFill>
        <p:spPr>
          <a:xfrm>
            <a:off x="1403280" y="4365720"/>
            <a:ext cx="4464000" cy="44748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4"/>
          <a:stretch/>
        </p:blipFill>
        <p:spPr>
          <a:xfrm>
            <a:off x="1476360" y="5041800"/>
            <a:ext cx="734364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图片 55300" descr=""/>
          <p:cNvPicPr/>
          <p:nvPr/>
        </p:nvPicPr>
        <p:blipFill>
          <a:blip r:embed="rId1"/>
          <a:stretch/>
        </p:blipFill>
        <p:spPr>
          <a:xfrm>
            <a:off x="595440" y="1433520"/>
            <a:ext cx="7953120" cy="399096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2"/>
          <a:stretch/>
        </p:blipFill>
        <p:spPr>
          <a:xfrm>
            <a:off x="1116000" y="2176560"/>
            <a:ext cx="5400720" cy="44748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3"/>
          <a:stretch/>
        </p:blipFill>
        <p:spPr>
          <a:xfrm>
            <a:off x="1116000" y="2852640"/>
            <a:ext cx="5400720" cy="44784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4"/>
          <a:stretch/>
        </p:blipFill>
        <p:spPr>
          <a:xfrm>
            <a:off x="1116000" y="3500280"/>
            <a:ext cx="5400720" cy="44784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5"/>
          <a:stretch/>
        </p:blipFill>
        <p:spPr>
          <a:xfrm>
            <a:off x="1116000" y="4221000"/>
            <a:ext cx="748836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图片 54276" descr=""/>
          <p:cNvPicPr/>
          <p:nvPr/>
        </p:nvPicPr>
        <p:blipFill>
          <a:blip r:embed="rId1"/>
          <a:stretch/>
        </p:blipFill>
        <p:spPr>
          <a:xfrm>
            <a:off x="290520" y="1028880"/>
            <a:ext cx="8562960" cy="480060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2"/>
          <a:stretch/>
        </p:blipFill>
        <p:spPr>
          <a:xfrm>
            <a:off x="900000" y="3284640"/>
            <a:ext cx="2376720" cy="44748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3"/>
          <a:stretch/>
        </p:blipFill>
        <p:spPr>
          <a:xfrm>
            <a:off x="900000" y="3948120"/>
            <a:ext cx="5759640" cy="44784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4"/>
          <a:stretch/>
        </p:blipFill>
        <p:spPr>
          <a:xfrm>
            <a:off x="826920" y="4638600"/>
            <a:ext cx="799308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4" name="图片 52231" descr=""/>
          <p:cNvPicPr/>
          <p:nvPr/>
        </p:nvPicPr>
        <p:blipFill>
          <a:blip r:embed="rId1"/>
          <a:stretch/>
        </p:blipFill>
        <p:spPr>
          <a:xfrm>
            <a:off x="237960" y="809640"/>
            <a:ext cx="8668080" cy="557208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2"/>
          <a:stretch/>
        </p:blipFill>
        <p:spPr>
          <a:xfrm>
            <a:off x="971640" y="4422600"/>
            <a:ext cx="6337080" cy="44784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3"/>
          <a:stretch/>
        </p:blipFill>
        <p:spPr>
          <a:xfrm>
            <a:off x="900000" y="5129280"/>
            <a:ext cx="6337440" cy="44748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4"/>
          <a:stretch/>
        </p:blipFill>
        <p:spPr>
          <a:xfrm>
            <a:off x="1014480" y="5791320"/>
            <a:ext cx="6337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8:37:33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